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benefits of electronic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ed from home/ on holidays / during absences /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building partners wi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it during other strands/top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FE64-8A9A-4A08-9D51-2E228B0E8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DF81-98B0-4037-977A-9B6FFCEFA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082E-5AD6-48D4-A0BB-0008C0734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B240-55FE-4002-93DE-5CA79FBBB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A5D7-40AD-4AD3-9804-AB18FF5DC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11D96-C50A-4FB5-8CFE-C09186B9C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6705-3149-4077-AFCB-80D66E89F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B344-7973-4319-8200-33B2879E5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AC6F-1DAB-45AF-9B88-8E9230A47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760A-4B0E-4A86-ABAB-BF3F580F0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EC09-2570-4895-A7E4-0F8E61208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F085-D95D-44D1-8A03-52E43DFF5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B906-2F54-41DC-8F9B-0E3B7087BE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0fn_vAhu_Lw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ains-camppp.wikispaces.com/file/view/Learning+Walls+Article.pd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7E7A-AFBA-4599-AF1F-C2C01153D2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4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ou Kes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Home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s return to hom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rt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DB98-C5A2-41CE-A4E4-7B87B30ECB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4816800" y="2140200"/>
            <a:ext cx="3575520" cy="3617640"/>
            <a:chOff x="4816800" y="2140200"/>
            <a:chExt cx="3575520" cy="3617640"/>
          </a:xfrm>
        </p:grpSpPr>
        <p:sp>
          <p:nvSpPr>
            <p:cNvPr id="85" name="Right Arrow Callout 4"/>
            <p:cNvSpPr/>
            <p:nvPr/>
          </p:nvSpPr>
          <p:spPr>
            <a:xfrm rot="809400">
              <a:off x="4955760" y="3015360"/>
              <a:ext cx="1341000" cy="1351440"/>
            </a:xfrm>
            <a:prstGeom prst="rightArrowCallout">
              <a:avLst>
                <a:gd name="adj1" fmla="val 25197"/>
                <a:gd name="adj2" fmla="val 25195"/>
                <a:gd name="adj3" fmla="val 25000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Down Arrow Callout 5"/>
            <p:cNvSpPr/>
            <p:nvPr/>
          </p:nvSpPr>
          <p:spPr>
            <a:xfrm rot="809400">
              <a:off x="6167160" y="2277720"/>
              <a:ext cx="1341000" cy="1351440"/>
            </a:xfrm>
            <a:prstGeom prst="downArrowCallout">
              <a:avLst>
                <a:gd name="adj1" fmla="val 25002"/>
                <a:gd name="adj2" fmla="val 25000"/>
                <a:gd name="adj3" fmla="val 25195"/>
                <a:gd name="adj4" fmla="val 649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eft Arrow Callout 6"/>
            <p:cNvSpPr/>
            <p:nvPr/>
          </p:nvSpPr>
          <p:spPr>
            <a:xfrm rot="809400">
              <a:off x="6912000" y="3484800"/>
              <a:ext cx="1341000" cy="1351440"/>
            </a:xfrm>
            <a:prstGeom prst="leftArrowCallout">
              <a:avLst>
                <a:gd name="adj1" fmla="val 25197"/>
                <a:gd name="adj2" fmla="val 25195"/>
                <a:gd name="adj3" fmla="val 25000"/>
                <a:gd name="adj4" fmla="val 649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Up Arrow Callout 7"/>
            <p:cNvSpPr/>
            <p:nvPr/>
          </p:nvSpPr>
          <p:spPr>
            <a:xfrm rot="809400">
              <a:off x="5689800" y="4268520"/>
              <a:ext cx="1341000" cy="1351440"/>
            </a:xfrm>
            <a:prstGeom prst="upArrowCallout">
              <a:avLst>
                <a:gd name="adj1" fmla="val 25002"/>
                <a:gd name="adj2" fmla="val 25000"/>
                <a:gd name="adj3" fmla="val 25195"/>
                <a:gd name="adj4" fmla="val 70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220920" y="152280"/>
            <a:ext cx="592308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evernote.com/schoo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structions for creating a portfolio using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blog.evernote.com/2012/02/28/how-to-create-a-portfolio-with-evernote-education-seri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71EF-5EAE-4179-8483-5A5C94131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ilding a Learning Wall/Portfoli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you may work electronically or 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ossible op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Prezi / Pape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Math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vernote / Prezi / Paper Template Learning Wall for a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pdate/Beautify our class Learning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7C41-5C00-43C4-8027-DE3F42C66C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irculate and explore each other’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brief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F8FB-3A6E-4341-AF20-C610FD7754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65120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Assessment of Learning as a continuous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learning walls and portfolios as an opportunity for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portfolios and learning wall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F89-47D4-4D89-988E-09B3276C28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1A8C-7EF8-4286-9577-34658551AB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ide 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wo circles - one insid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on the inside face participants in the outsid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ticipants in the outside circle will rotate according to facilitato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the prompt with the person across from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CEC6-235A-4DB9-8B4D-8F878D406D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nut 4"/>
          <p:cNvSpPr/>
          <p:nvPr/>
        </p:nvSpPr>
        <p:spPr>
          <a:xfrm>
            <a:off x="6705720" y="304920"/>
            <a:ext cx="1218960" cy="1218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888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5F23-DAF3-475A-BDF9-36BB36AA30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athLearningWall"/>
          <p:cNvPicPr/>
          <p:nvPr/>
        </p:nvPicPr>
        <p:blipFill>
          <a:blip r:embed="rId1"/>
          <a:stretch/>
        </p:blipFill>
        <p:spPr>
          <a:xfrm>
            <a:off x="-76320" y="304920"/>
            <a:ext cx="915696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5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68120" y="304920"/>
            <a:ext cx="92358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Walls con’t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lated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ins-camppp.wikispaces.com/file/view/Learning%2BWalls%2BArticl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CFD9-B9F0-4B20-97B2-3B0D2D40F9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4800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648320"/>
            <a:ext cx="8229600" cy="1466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6535-8BA7-424A-AC80-C81D74586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324-2250-4543-872F-F6110FDB39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 rot="1060800">
            <a:off x="5618160" y="740880"/>
            <a:ext cx="2890800" cy="3329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149400" y="1447920"/>
            <a:ext cx="5181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tudent assessment purposes, a portfolio can be defined as "a purposeful collection of student performances that exhibits a student's effort, progress and achievement over a period of ti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Hibbard et al, 1996, p. 18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igsaw – Expert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groups of 5 (this is your home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from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s meet with ones, twos with tw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your expert group read and discusses assigned section from the Saskatchewan Professional Development Unit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rtfolios: More Than Just a Folder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ttp://www.education.gov.sk.ca/Default.aspx?DN=9bd9d964-02fb-445f-af46-80dc5b7a5f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1762-E52D-4C36-B768-B32D5BD25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23:01:59Z</dcterms:created>
  <dc:creator>CSC</dc:creator>
  <dc:description/>
  <dc:language>en-US</dc:language>
  <cp:lastModifiedBy>Kathy Kubota-Zarivnij</cp:lastModifiedBy>
  <dcterms:modified xsi:type="dcterms:W3CDTF">2012-08-22T23:49:10Z</dcterms:modified>
  <cp:revision>38</cp:revision>
  <dc:subject/>
  <dc:title>&lt;Title&gt;</dc:title>
</cp:coreProperties>
</file>